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9BC2-6A72-407B-9D4F-46FDB1CB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DA91-BB37-4539-9174-AEE59EDB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BFDF-D175-4F0B-BFA4-5B1DD7A0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DB51-4D05-4D5A-A92E-A4F02955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BABF-2765-41E3-96AC-AC8D2172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EC97-BE24-4CF1-8723-44500520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759B-E3EA-4774-8AFB-992215C0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B53D-A733-452F-9BE4-08DA7B1C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5BEC-AF4F-41EA-86A1-1B958989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977A-576E-4D96-857E-12B0F139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BE9C-4C49-47D8-8AC6-80E9F6D5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22E0-FA30-498F-BA38-C0BE00A7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18F4-F266-48CF-895A-0538F87E7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s of user interfaces and effective information architecture of web 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rchitecture describes how a website is structured in terms of how the content is organised (or grouped, what information is included and where it is located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navigation proc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guish from design elements of onscreen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site might be attractively designed however it may have ineffective information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Quality User-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nterface, where user interacts with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, is screen, etc; software is operating system &amp; application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have following characteri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ble and accessible, (user interacts intuitively); clear, planned &amp; logical; screen layout not unnecessarily elaborate or deco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selection, 2 type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ibility for all users, eg. people with disabilities can access; eg. use of ALT text 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acces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ness &amp; relevance; meets needs of intended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33336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 Quality User-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03:45:16Z</dcterms:created>
  <dc:creator>T01421606</dc:creator>
  <dc:description/>
  <dc:language>en-US</dc:language>
  <cp:lastModifiedBy>Kelvin Baird</cp:lastModifiedBy>
  <dcterms:modified xsi:type="dcterms:W3CDTF">2007-04-09T02:54:42Z</dcterms:modified>
  <cp:revision>5</cp:revision>
  <dc:subject/>
  <dc:title>Components of Computer System:  </dc:title>
</cp:coreProperties>
</file>